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EE35-F2C4-45AA-8A15-71898854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7FB9-0B9A-4E13-BD28-23AE2644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F08-CAF6-4D32-848B-35B79898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B06C-A195-4638-A6D7-01077E6C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8A4E-65B6-4F94-84F7-975719F6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BA9F-E62F-446A-A13B-31EAB3B6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2A6A-B0DC-44DE-9AB6-0709F5C8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BC0E-9E41-488B-882F-EB9BD084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6216-8080-47AB-B9C9-12B2F46E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A757-11E1-4DC8-AD0D-0317AFF2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E5B1-B20E-47C7-AF38-21C2B10D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D9FE-ED55-48B0-9058-DB978A81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E895-9429-43E1-9D34-73742A62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BE3A-485C-4887-8AD1-E8A85DC9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91C2-A742-4AC5-B1EA-0FEE2CCC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A229-1C59-474F-B230-875781D4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EE65-2B01-4D79-AB44-68EA27B8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36F4-9509-4037-B1A8-126AC212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F0BB-7F4D-4A53-899D-723BEC0A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9715-E3AF-4F60-84CA-F3F21886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50B-03C3-4F28-BB3F-D419CC93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294C-0C8F-469B-8CCE-C5DF33CE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5DC4-C1A9-46A6-9797-B401031A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7EE-1519-4E21-8BB1-27F061A9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59ED-5053-4442-B5E8-D49BC4ED59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4D82-43DA-4C19-8339-817A9F8D9B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uxist.com/gallery/70million-second-home/4011504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-457560"/>
            <a:ext cx="8534520" cy="40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grand maison de Yuri Miln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240" y="4800240"/>
            <a:ext cx="6248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: Nicole Shahi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7" descr="Yuri Milner $70 million home in Silicon Valley California"/>
          <p:cNvPicPr/>
          <p:nvPr/>
        </p:nvPicPr>
        <p:blipFill>
          <a:blip r:embed="rId1"/>
          <a:stretch/>
        </p:blipFill>
        <p:spPr>
          <a:xfrm>
            <a:off x="1371600" y="2057400"/>
            <a:ext cx="6400800" cy="27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loir en ha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’est une piece de luxe avec des  blanc murs jaun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7" descr="Upstairs H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3200400"/>
            <a:ext cx="5524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Salle a` Mang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 y a salle a` manger  avec blanc murs , duex chandeliers, rouge chaise et la tab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Formal Dining Room"/>
          <p:cNvPicPr/>
          <p:nvPr/>
        </p:nvPicPr>
        <p:blipFill>
          <a:blip r:embed="rId1"/>
          <a:stretch/>
        </p:blipFill>
        <p:spPr>
          <a:xfrm>
            <a:off x="3124080" y="3276720"/>
            <a:ext cx="5524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bliotheq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’ endroit est ideal pour  faire votr devoir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Formal Library"/>
          <p:cNvPicPr/>
          <p:nvPr/>
        </p:nvPicPr>
        <p:blipFill>
          <a:blip r:embed="rId1"/>
          <a:stretch/>
        </p:blipFill>
        <p:spPr>
          <a:xfrm>
            <a:off x="3200400" y="3276720"/>
            <a:ext cx="5524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 sal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veilleuse  salon est vert et blanc avec trois fenet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5" descr="Master Sitting Room"/>
          <p:cNvPicPr/>
          <p:nvPr/>
        </p:nvPicPr>
        <p:blipFill>
          <a:blip r:embed="rId1"/>
          <a:stretch/>
        </p:blipFill>
        <p:spPr>
          <a:xfrm>
            <a:off x="3200400" y="3276720"/>
            <a:ext cx="5524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Chamb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 y a rose meubles dans le chamb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Master Bedroom"/>
          <p:cNvPicPr/>
          <p:nvPr/>
        </p:nvPicPr>
        <p:blipFill>
          <a:blip r:embed="rId1"/>
          <a:stretch/>
        </p:blipFill>
        <p:spPr>
          <a:xfrm>
            <a:off x="3124080" y="3276720"/>
            <a:ext cx="5524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Chamb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`est une chambre rouge avec le l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62103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 Sal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 divan est bleu. Les murs, chaises et chandelier sont bla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2514600" y="2895480"/>
            <a:ext cx="621036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ff"/>
                </a:solidFill>
                <a:latin typeface="Arial"/>
              </a:rPr>
              <a:t>Le Fin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5:55:46Z</dcterms:created>
  <dc:creator>edill</dc:creator>
  <dc:description/>
  <dc:language>en-US</dc:language>
  <cp:lastModifiedBy>Elena Shahid</cp:lastModifiedBy>
  <dcterms:modified xsi:type="dcterms:W3CDTF">2011-11-17T03:28:31Z</dcterms:modified>
  <cp:revision>38</cp:revision>
  <dc:subject/>
  <dc:title>La maison Donald Trump</dc:title>
</cp:coreProperties>
</file>